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190-C8B4-4563-8014-2501F4F8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5D7-11C7-4823-9733-72BCD0D1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D4E-718C-400B-9F96-153BEC7C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1C8-CA00-4A3B-87B5-046BD722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565-5EFE-4A3F-8D02-6D5A017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2CE-9D48-4995-995F-99E334F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045-76A6-4BE7-B0BB-7D64B0C9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333-1585-49CB-A4F4-A1652D1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E9C-FC7F-48CE-BE2F-1016780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FDF-6C40-45F7-BACB-1DAFE68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CAC-EAFC-479F-ADB3-D1759FC1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CF0-44C7-476F-B3E1-A4F1DA2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82D-EE6F-47A1-AD30-881C95886144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 يصنـــع العجـــائ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ن طلبت تكري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جيب الطلـ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قـدس ذا  الجسـ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  ضعفـه وإثمـ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ـه يحـل للمـ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480"/>
            <a:ext cx="4724280" cy="77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شـغل مـواهب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قـدسـاً  عـواط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مجـد  من أحبن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2:55:05Z</dcterms:created>
  <dc:creator>user</dc:creator>
  <dc:description/>
  <dc:language>en-US</dc:language>
  <cp:lastModifiedBy>user</cp:lastModifiedBy>
  <dcterms:modified xsi:type="dcterms:W3CDTF">2006-05-05T05:44:03Z</dcterms:modified>
  <cp:revision>13</cp:revision>
  <dc:subject/>
  <dc:title>Slide 1</dc:title>
</cp:coreProperties>
</file>